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6ED5C-B112-4453-8A81-0AB1ED885C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35933-287F-4333-925B-09985489807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C893B-CEC6-40CB-A438-510B5A6BC44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5EEFA-1C8A-42AB-AFE2-12F83873BD6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6D25F-7DC1-49FC-AED4-CA8B7AE5109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D5115-81ED-4C84-AF2B-41928CEBC46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B1E51-3FAD-4E92-A732-2100CCB3255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D9614-2FF1-4CB8-81C6-49500EE823F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70D8C-1870-4E6C-AFD3-9F3203AAB8E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30D95-D28C-4D29-801D-1854B3A4D5A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101AA-3F1F-4925-9CC4-1F84D91C475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0E8FE-A887-4AE4-B6B3-86D8E93841B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25110-7DF7-4774-BC53-5E0FE65BAFA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C56E7-E264-48C5-851A-09697907917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33C6C-36DB-4452-9A91-24141F64C06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57002-5796-4390-9465-5EAD926F578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AA237-813D-424D-909B-EF54CEA772A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825A-C4F7-43A5-A0DC-D8F2756B1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0161-0187-48C3-8D88-3246CF98A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B8C8-E2AD-4BB0-8AB9-8B46AC7BF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9E8A-702B-43D9-BE71-C0CB5ED40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1B45C-5AB8-4B64-8DDD-E6EAF8383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37256-D007-4DE7-B95A-A4FDB1C05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49BAD-B947-4AB4-8F03-4A53DF82E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9DB64-0F2E-4A5D-9023-74E826216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F57C5-8A48-48E4-AE93-7732554FC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D8FEE-24C0-443D-84F4-2CA04DAEB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BF050-7A6D-4D91-8012-CE41591D5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22F1-499E-4C4D-8693-707A056A0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0A501-F1C2-4380-88E7-26C2D98A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BC361-B002-41F9-84A3-F4F4C73C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8D79A-8212-44AB-9E8C-147C809DB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17C3C-077D-4FBE-A53C-105E734F1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F50BB-BF0E-4D2C-A052-7613639DB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6647-208A-4D3B-9EAF-DA55F8D41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5BA6-29BC-48D2-A837-7BED639F3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C9AE-11FB-4110-A672-8CD5B3757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49FA-E6F4-47BB-AF9C-D368F8745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C9C8-CFE5-4152-BF8A-C3B06977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2157-3E4C-4140-842F-B6E7C2243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F2E0-D093-4301-BC18-EE27FB1A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E3159-8AA8-47BB-BC08-2F8C804BCD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BE55D-DCA3-4673-ADF0-E61BD65134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Steph&apos;s%20School%20Stuff/Rubric%20for%20Flower%20Problem.xls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cc"/>
                </a:solidFill>
                <a:latin typeface="Bookman Old Style"/>
              </a:rPr>
              <a:t>How do you know they know?</a:t>
            </a:r>
            <a:endParaRPr b="0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cc"/>
                </a:solidFill>
                <a:latin typeface="Verdana"/>
              </a:rPr>
              <a:t>Presented by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cc"/>
                </a:solidFill>
                <a:latin typeface="Verdana"/>
              </a:rPr>
              <a:t>Stephanie Sandwell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00cc"/>
                </a:solidFill>
                <a:latin typeface="Arial"/>
              </a:rPr>
              <a:t>T-</a:t>
            </a:r>
            <a:endParaRPr b="0" lang="en-US" sz="6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cc"/>
                </a:solidFill>
                <a:latin typeface="Old English Text MT"/>
              </a:rPr>
              <a:t>T</a:t>
            </a:r>
            <a:r>
              <a:rPr b="0" lang="en-US" sz="5400" spc="-1" strike="noStrike">
                <a:solidFill>
                  <a:srgbClr val="6600cc"/>
                </a:solidFill>
                <a:latin typeface="Verdana"/>
              </a:rPr>
              <a:t>est for reasonableness and significance of the solution.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00cc"/>
                </a:solidFill>
                <a:latin typeface="Arial"/>
              </a:rPr>
              <a:t>I-</a:t>
            </a:r>
            <a:endParaRPr b="0" lang="en-US" sz="6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00cc"/>
                </a:solidFill>
                <a:latin typeface="Old English Text MT"/>
              </a:rPr>
              <a:t>I</a:t>
            </a:r>
            <a:r>
              <a:rPr b="0" lang="en-US" sz="6600" spc="-1" strike="noStrike">
                <a:solidFill>
                  <a:srgbClr val="6600cc"/>
                </a:solidFill>
                <a:latin typeface="Verdana"/>
              </a:rPr>
              <a:t>dentify 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00cc"/>
                </a:solidFill>
                <a:latin typeface="Verdana"/>
              </a:rPr>
              <a:t>key concepts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00cc"/>
                </a:solidFill>
                <a:latin typeface="Arial"/>
              </a:rPr>
              <a:t>F-</a:t>
            </a:r>
            <a:endParaRPr b="0" lang="en-US" sz="6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cc"/>
                </a:solidFill>
                <a:latin typeface="Old English Text MT"/>
              </a:rPr>
              <a:t>F</a:t>
            </a:r>
            <a:r>
              <a:rPr b="0" lang="en-US" sz="5400" spc="-1" strike="noStrike">
                <a:solidFill>
                  <a:srgbClr val="6600cc"/>
                </a:solidFill>
                <a:latin typeface="Verdana"/>
              </a:rPr>
              <a:t>ormulate a conclusion or conjecture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00cc"/>
                </a:solidFill>
                <a:latin typeface="Arial"/>
              </a:rPr>
              <a:t>Y-</a:t>
            </a:r>
            <a:endParaRPr b="0" lang="en-US" sz="6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cc"/>
                </a:solidFill>
                <a:latin typeface="Old English Text MT"/>
              </a:rPr>
              <a:t>Y</a:t>
            </a:r>
            <a:r>
              <a:rPr b="0" lang="en-US" sz="5400" spc="-1" strike="noStrike">
                <a:solidFill>
                  <a:srgbClr val="6600cc"/>
                </a:solidFill>
                <a:latin typeface="Verdana"/>
              </a:rPr>
              <a:t>ield to mathematical principles and analyze to solve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95280" y="45684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cc"/>
                </a:solidFill>
                <a:latin typeface="Arial"/>
              </a:rPr>
              <a:t>Sample Rubric</a:t>
            </a:r>
            <a:endParaRPr b="0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76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Steph's School Stuff\Rubric for Flower Problem.xl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1371600" y="289548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ubric for Whitebeard’s Treasu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ontact Informa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Verdana"/>
              </a:rPr>
              <a:t>Stephanie Sandwel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Verdana"/>
              </a:rPr>
              <a:t>4caster@longlines.com (H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Verdana"/>
              </a:rPr>
              <a:t>(605) 422-2192 (H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Verdana"/>
              </a:rPr>
              <a:t>(712) 279-677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Verdana"/>
              </a:rPr>
              <a:t>West High Scho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Verdana"/>
              </a:rPr>
              <a:t>Sioux City, Iow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5"/>
          <p:cNvSpPr/>
          <p:nvPr/>
        </p:nvSpPr>
        <p:spPr>
          <a:xfrm>
            <a:off x="1371600" y="533520"/>
            <a:ext cx="685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ow do you know they know 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esenter:  Stephanie Sandwel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1371600" y="2133720"/>
            <a:ext cx="71629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udience:  Middle and High School Teach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scription: Using cooperative grouping in your classroom is a very effective tool in teaching students how to explain, justify and develop a conjecture or conclusion.  Come and see how the acronym JUSTIFY will insure that your students understand mathematical concepts using real world application problems and AP connections strategies.  A sample rubric will be provid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ctivity present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600cc"/>
                </a:solidFill>
                <a:latin typeface="Verdana"/>
              </a:rPr>
              <a:t>Work the problem yourself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600cc"/>
                </a:solidFill>
                <a:latin typeface="Verdana"/>
              </a:rPr>
              <a:t>Have supplies read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600cc"/>
                </a:solidFill>
                <a:latin typeface="Verdana"/>
              </a:rPr>
              <a:t>Determine group siz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600cc"/>
                </a:solidFill>
                <a:latin typeface="Verdana"/>
              </a:rPr>
              <a:t>Choose a method to determine group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600cc"/>
                </a:solidFill>
                <a:latin typeface="Verdana"/>
              </a:rPr>
              <a:t>Create a grading rubric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1523880" y="762120"/>
            <a:ext cx="693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cc"/>
                </a:solidFill>
                <a:latin typeface="Verdana"/>
              </a:rPr>
              <a:t>Pre- Planning</a:t>
            </a:r>
            <a:r>
              <a:rPr b="0" lang="en-US" sz="4800" spc="-1" strike="noStrike">
                <a:solidFill>
                  <a:srgbClr val="6600cc"/>
                </a:solidFill>
                <a:latin typeface="Verdana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cc"/>
                </a:solidFill>
                <a:latin typeface="Arial"/>
              </a:rPr>
              <a:t>During Classtime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600cc"/>
                </a:solidFill>
                <a:latin typeface="Verdana"/>
              </a:rPr>
              <a:t>Introduce the proble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600cc"/>
                </a:solidFill>
                <a:latin typeface="Verdana"/>
              </a:rPr>
              <a:t>Explain any unclear parts of the proble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600cc"/>
                </a:solidFill>
                <a:latin typeface="Verdana"/>
              </a:rPr>
              <a:t>Explain grading rubric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600cc"/>
                </a:solidFill>
                <a:latin typeface="Verdana"/>
              </a:rPr>
              <a:t>Monitor groups and assist as neede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600cc"/>
                </a:solidFill>
                <a:latin typeface="Verdana"/>
              </a:rPr>
              <a:t>Summarize findings with the clas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6600cc"/>
                </a:solidFill>
                <a:latin typeface="Verdana"/>
              </a:rPr>
              <a:t>Optional:  Peer grad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cc"/>
                </a:solidFill>
                <a:latin typeface="Arial"/>
              </a:rPr>
              <a:t>After Class Time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600cc"/>
                </a:solidFill>
                <a:latin typeface="Verdana"/>
              </a:rPr>
              <a:t>Reflect on strengths of using cooperative group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600cc"/>
                </a:solidFill>
                <a:latin typeface="Verdana"/>
              </a:rPr>
              <a:t>Identify weaknesses and adjust for next tim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600cc"/>
                </a:solidFill>
                <a:latin typeface="Verdana"/>
              </a:rPr>
              <a:t>Check work and award poin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990720" y="228600"/>
            <a:ext cx="7467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Verdana"/>
              </a:rPr>
              <a:t>What is Cooperative Learning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1600200" y="2209680"/>
            <a:ext cx="6629400" cy="38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Verdana"/>
              </a:rPr>
              <a:t>A cooperative learning group is a heterogeneous team of learners who pool their knowledge and abilities to accomplish a assigned task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cc"/>
                </a:solidFill>
                <a:latin typeface="Verdana"/>
              </a:rPr>
              <a:t>Source:  “Cooperative Informal Geometry”, Wade H. Sherard III, Dale Seymour Publications, 1995. P. 2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00cc"/>
                </a:solidFill>
                <a:latin typeface="Arial"/>
              </a:rPr>
              <a:t>J-U-S-T-I-F-Y</a:t>
            </a:r>
            <a:endParaRPr b="0" lang="en-US" sz="6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cc"/>
                </a:solidFill>
                <a:latin typeface="Verdana"/>
              </a:rPr>
              <a:t>SO…..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cc"/>
                </a:solidFill>
                <a:latin typeface="Verdana"/>
              </a:rPr>
              <a:t>What does this mean?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00cc"/>
                </a:solidFill>
                <a:latin typeface="Arial"/>
              </a:rPr>
              <a:t>J-</a:t>
            </a:r>
            <a:endParaRPr b="0" lang="en-US" sz="6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cc"/>
                </a:solidFill>
                <a:latin typeface="Old English Text MT"/>
              </a:rPr>
              <a:t>J</a:t>
            </a:r>
            <a:r>
              <a:rPr b="0" lang="en-US" sz="5400" spc="-1" strike="noStrike">
                <a:solidFill>
                  <a:srgbClr val="6600cc"/>
                </a:solidFill>
                <a:latin typeface="Verdana"/>
              </a:rPr>
              <a:t>ot down thoughts and ideas from 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cc"/>
                </a:solidFill>
                <a:latin typeface="Verdana"/>
              </a:rPr>
              <a:t>pre-planning and discussion</a:t>
            </a:r>
            <a:r>
              <a:rPr b="0" lang="en-US" sz="6000" spc="-1" strike="noStrike">
                <a:solidFill>
                  <a:srgbClr val="6600cc"/>
                </a:solidFill>
                <a:latin typeface="Verdana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00cc"/>
                </a:solidFill>
                <a:latin typeface="Arial"/>
              </a:rPr>
              <a:t>U-</a:t>
            </a:r>
            <a:endParaRPr b="0" lang="en-US" sz="6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cc"/>
                </a:solidFill>
                <a:latin typeface="Old English Text MT"/>
              </a:rPr>
              <a:t>U</a:t>
            </a:r>
            <a:r>
              <a:rPr b="0" lang="en-US" sz="5400" spc="-1" strike="noStrike">
                <a:solidFill>
                  <a:srgbClr val="6600cc"/>
                </a:solidFill>
                <a:latin typeface="Verdana"/>
              </a:rPr>
              <a:t>tilize proper geometric tools and create a diagram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00cc"/>
                </a:solidFill>
                <a:latin typeface="Arial"/>
              </a:rPr>
              <a:t>S-</a:t>
            </a:r>
            <a:endParaRPr b="0" lang="en-US" sz="6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00cc"/>
                </a:solidFill>
                <a:latin typeface="Old English Text MT"/>
              </a:rPr>
              <a:t>S</a:t>
            </a:r>
            <a:r>
              <a:rPr b="0" lang="en-US" sz="7200" spc="-1" strike="noStrike">
                <a:solidFill>
                  <a:srgbClr val="6600cc"/>
                </a:solidFill>
                <a:latin typeface="Verdana"/>
              </a:rPr>
              <a:t>how each step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8T17:34:39Z</dcterms:created>
  <dc:creator>HCISD</dc:creator>
  <dc:description/>
  <dc:language>en-US</dc:language>
  <cp:lastModifiedBy>Jayhawks</cp:lastModifiedBy>
  <dcterms:modified xsi:type="dcterms:W3CDTF">2010-11-17T00:28:30Z</dcterms:modified>
  <cp:revision>19</cp:revision>
  <dc:subject/>
  <dc:title>How do you know they know?</dc:title>
</cp:coreProperties>
</file>